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8359-0351-438A-A24E-62E29B0E3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886-9C5E-43F7-81CE-930250ED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42C-9C6E-4202-A6E5-75E2D8047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CB8B-B9BD-462C-9F2F-83CCEDD72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9841-3B93-4011-9BF3-1A0BA01FB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AB4EC-D379-4669-B7AE-C31BD56D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2B085-2D91-4192-8B30-5F320930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6457-2AB7-464B-A5CD-C156DF9E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97667-43B1-4EAB-8FD4-93D3D8759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769D-0CA2-4132-9A66-BBD4599CB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B746A-10E1-41B6-83CA-47211C96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7B9E-D09A-4D91-A894-A7A438D1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6562-C952-41E4-8EB9-8D95EE2A3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348D-8214-45D7-A23E-DF87BE51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3FE75-7CEA-4E31-AD24-7A0666BB3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7FA3-202B-4A1F-81EB-6C0C7D691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35A1E-7CF4-420D-A1E3-DB4D78734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2D9-6D7E-4A12-9A4C-A8AE630B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3335-0703-47B5-BF90-7008EF21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53B9-7833-4BB2-A906-F971C14F3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31E2-9B59-402F-9EF7-6ADA3C025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D861-B2B3-4420-B304-710A71B1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070-35CC-4C4E-B05C-C167619E0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943-74B7-43E0-A6E2-CEAF12A3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A697-C58D-4440-9B2A-BF1E1343D84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b389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018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b389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FD34E-4276-47C3-9B05-6ACF4EBBA67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380880"/>
            <a:ext cx="2057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1447920" y="2361960"/>
            <a:ext cx="7238880" cy="3809880"/>
          </a:xfrm>
          <a:prstGeom prst="rect">
            <a:avLst/>
          </a:prstGeom>
          <a:solidFill>
            <a:srgbClr val="9d9c81"/>
          </a:solidFill>
          <a:ln cap="sq" w="12600">
            <a:solidFill>
              <a:srgbClr val="000000"/>
            </a:solidFill>
            <a:miter/>
          </a:ln>
          <a:effectLst>
            <a:outerShdw dist="197537" dir="2700000" blurRad="0" rotWithShape="0">
              <a:srgbClr val="614020"/>
            </a:outerShdw>
          </a:effectLst>
        </p:spPr>
        <p:txBody>
          <a:bodyPr lIns="92160" rIns="92160" tIns="46080" bIns="46080" anchor="ctr" anchorCtr="1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Narrow"/>
              </a:rPr>
              <a:t>ドキュメント自動生成ツール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 Narrow"/>
              </a:rPr>
              <a:t>【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A HotDocument</a:t>
            </a:r>
            <a:r>
              <a:rPr b="0" lang="zh-CN" sz="3200" spc="-1" strike="noStrike">
                <a:solidFill>
                  <a:srgbClr val="000000"/>
                </a:solidFill>
                <a:latin typeface="Arial Narrow"/>
              </a:rPr>
              <a:t>】の紹介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49" name="hotdoclogo" descr=""/>
          <p:cNvPicPr/>
          <p:nvPr/>
        </p:nvPicPr>
        <p:blipFill>
          <a:blip r:embed="rId1"/>
          <a:stretch/>
        </p:blipFill>
        <p:spPr>
          <a:xfrm>
            <a:off x="4572000" y="457200"/>
            <a:ext cx="4572000" cy="1096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1012-FB98-4E0A-942D-1160A28F81F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プロシージャ定義書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(html</a:t>
            </a: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形式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7" name="4.プロシージャ定義書(html形式)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64594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223-FE4C-437E-B42D-FAECFA2F801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リレーションシップ定義書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(html</a:t>
            </a: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形式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9" name="5.リレーションシップ定義書(html形式)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64594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B86-43AC-4746-B814-50C04D64AB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プロシージャフロー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(Excel</a:t>
            </a: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形式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71" name="6.プロシージャフロー(Excel形式)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64594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43E-1DA7-4111-9C9E-B16786A8B9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ファイル一覧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(Excel</a:t>
            </a: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形式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73" name="7.ファイル一覧(Excel形式)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64594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E5A7-BF39-433D-BD84-4AACF449087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Web</a:t>
            </a: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フォーム説明書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(Excel</a:t>
            </a:r>
            <a:r>
              <a:rPr b="0" lang="zh-CN" sz="3600" spc="-1" strike="noStrike">
                <a:solidFill>
                  <a:srgbClr val="301800"/>
                </a:solidFill>
                <a:latin typeface="Arial Narrow"/>
              </a:rPr>
              <a:t>形式</a:t>
            </a:r>
            <a:r>
              <a:rPr b="0" lang="en-US" sz="3600" spc="-1" strike="noStrike">
                <a:solidFill>
                  <a:srgbClr val="3018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75" name="8.Webフォーム説明書(Excel形式)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64594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97BB-DD5A-4E89-85B5-961831FCCBE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01800"/>
                </a:solidFill>
                <a:latin typeface="Arial Narrow"/>
              </a:rPr>
              <a:t>製品ラインナップ、価格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80773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【</a:t>
            </a:r>
            <a:r>
              <a:rPr b="1" lang="ja-JP" sz="3400" spc="-1" strike="noStrike">
                <a:solidFill>
                  <a:srgbClr val="000000"/>
                </a:solidFill>
                <a:latin typeface="Bookman Old Style"/>
              </a:rPr>
              <a:t>A HotDocument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】 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for Visual Basic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【</a:t>
            </a:r>
            <a:r>
              <a:rPr b="1" lang="ja-JP" sz="3400" spc="-1" strike="noStrike">
                <a:solidFill>
                  <a:srgbClr val="000000"/>
                </a:solidFill>
                <a:latin typeface="Bookman Old Style"/>
              </a:rPr>
              <a:t>A HotDocument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】 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for Visual C++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【</a:t>
            </a:r>
            <a:r>
              <a:rPr b="1" lang="ja-JP" sz="3400" spc="-1" strike="noStrike">
                <a:solidFill>
                  <a:srgbClr val="000000"/>
                </a:solidFill>
                <a:latin typeface="Bookman Old Style"/>
              </a:rPr>
              <a:t>A HotDocument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】 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for Visual C#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【</a:t>
            </a:r>
            <a:r>
              <a:rPr b="1" lang="ja-JP" sz="3400" spc="-1" strike="noStrike">
                <a:solidFill>
                  <a:srgbClr val="000000"/>
                </a:solidFill>
                <a:latin typeface="Bookman Old Style"/>
              </a:rPr>
              <a:t>A HotDocument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】 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for Acces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【</a:t>
            </a:r>
            <a:r>
              <a:rPr b="1" lang="ja-JP" sz="3400" spc="-1" strike="noStrike">
                <a:solidFill>
                  <a:srgbClr val="000000"/>
                </a:solidFill>
                <a:latin typeface="Bookman Old Style"/>
              </a:rPr>
              <a:t>A HotDocument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】 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for Excel</a:t>
            </a: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等々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2F3B-4A86-4B1F-BABE-DA4F0545C7E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01800"/>
                </a:solidFill>
                <a:latin typeface="Arial Narrow"/>
              </a:rPr>
              <a:t>【</a:t>
            </a:r>
            <a:r>
              <a:rPr b="1" lang="en-US" sz="4400" spc="-1" strike="noStrike">
                <a:solidFill>
                  <a:srgbClr val="301800"/>
                </a:solidFill>
                <a:latin typeface="Bookman Old Style"/>
              </a:rPr>
              <a:t>A HotDocument</a:t>
            </a:r>
            <a:r>
              <a:rPr b="0" lang="zh-CN" sz="4400" spc="-1" strike="noStrike">
                <a:solidFill>
                  <a:srgbClr val="301800"/>
                </a:solidFill>
                <a:latin typeface="Arial Narrow"/>
              </a:rPr>
              <a:t>】 </a:t>
            </a:r>
            <a:r>
              <a:rPr b="0" lang="en-US" sz="4400" spc="-1" strike="noStrike">
                <a:solidFill>
                  <a:srgbClr val="301800"/>
                </a:solidFill>
                <a:latin typeface="Arial Narrow"/>
              </a:rPr>
              <a:t>Studio2.0</a:t>
            </a:r>
            <a:endParaRPr b="0" lang="en-US" sz="44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 Narrow"/>
              </a:rPr>
              <a:t>【</a:t>
            </a:r>
            <a:r>
              <a:rPr b="1" lang="en-US" sz="3000" spc="-1" strike="noStrike">
                <a:solidFill>
                  <a:srgbClr val="000000"/>
                </a:solidFill>
                <a:latin typeface="Bookman Old Style"/>
              </a:rPr>
              <a:t>A HotDocument</a:t>
            </a:r>
            <a:r>
              <a:rPr b="0" lang="zh-CN" sz="3000" spc="-1" strike="noStrike">
                <a:solidFill>
                  <a:srgbClr val="000000"/>
                </a:solidFill>
                <a:latin typeface="Arial Narrow"/>
              </a:rPr>
              <a:t>】シリーズ全言語、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Arial Narrow"/>
              </a:rPr>
              <a:t>全バージョンを含んだオールインパッケージ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 Narrow"/>
              </a:rPr>
              <a:t>パッケージ特別価格にて販売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 Narrow"/>
              </a:rPr>
              <a:t>プレミアムサポート </a:t>
            </a:r>
            <a:r>
              <a:rPr b="0" lang="en-US" sz="3000" spc="-1" strike="noStrike">
                <a:solidFill>
                  <a:srgbClr val="000000"/>
                </a:solidFill>
                <a:latin typeface="Arial Narrow"/>
              </a:rPr>
              <a:t>- 1</a:t>
            </a:r>
            <a:r>
              <a:rPr b="0" lang="zh-CN" sz="3000" spc="-1" strike="noStrike">
                <a:solidFill>
                  <a:srgbClr val="000000"/>
                </a:solidFill>
                <a:latin typeface="Arial Narrow"/>
              </a:rPr>
              <a:t>年間全製品のバージョンアップ無料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C8EB-4214-4B8C-B90B-71198464F9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01800"/>
                </a:solidFill>
                <a:latin typeface="Arial Narrow"/>
              </a:rPr>
              <a:t>問い合わせ先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>
            <a:off x="1295280" y="2057400"/>
            <a:ext cx="769644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</a:rPr>
              <a:t>企画、開発、販売元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 Narrow"/>
              </a:rPr>
              <a:t>株式会社【</a:t>
            </a:r>
            <a:r>
              <a:rPr b="1" lang="ja-JP" sz="2400" spc="-1" strike="noStrike">
                <a:solidFill>
                  <a:srgbClr val="000000"/>
                </a:solidFill>
                <a:latin typeface="Bookman Old Style"/>
              </a:rPr>
              <a:t>A HotDocument</a:t>
            </a:r>
            <a:r>
              <a:rPr b="0" lang="ja-JP" sz="2400" spc="-1" strike="noStrike">
                <a:solidFill>
                  <a:srgbClr val="000000"/>
                </a:solidFill>
                <a:latin typeface="Arial Narrow"/>
              </a:rPr>
              <a:t>】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 Narrow"/>
              </a:rPr>
              <a:t>E-Mail</a:t>
            </a:r>
            <a:r>
              <a:rPr b="0" lang="ja-JP" sz="2400" spc="-1" strike="noStrike">
                <a:solidFill>
                  <a:srgbClr val="000000"/>
                </a:solidFill>
                <a:latin typeface="Arial Narrow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 Narrow"/>
              </a:rPr>
              <a:t>info@hotdocument.net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Arial Narrow"/>
              </a:rPr>
              <a:t>URL</a:t>
            </a:r>
            <a:r>
              <a:rPr b="0" lang="ja-JP" sz="2400" spc="-1" strike="noStrike">
                <a:solidFill>
                  <a:srgbClr val="000000"/>
                </a:solidFill>
                <a:latin typeface="Arial Narrow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 Narrow"/>
              </a:rPr>
              <a:t>http://www.hotdocument.net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1588-BD5B-4EEE-86C4-D75338D463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01800"/>
                </a:solidFill>
                <a:latin typeface="Arial Narrow"/>
              </a:rPr>
              <a:t>【</a:t>
            </a:r>
            <a:r>
              <a:rPr b="1" lang="en-US" sz="4800" spc="-1" strike="noStrike">
                <a:solidFill>
                  <a:srgbClr val="301800"/>
                </a:solidFill>
                <a:latin typeface="Bookman Old Style"/>
              </a:rPr>
              <a:t>A HotDocument</a:t>
            </a:r>
            <a:r>
              <a:rPr b="0" lang="zh-CN" sz="4800" spc="-1" strike="noStrike">
                <a:solidFill>
                  <a:srgbClr val="301800"/>
                </a:solidFill>
                <a:latin typeface="Arial Narrow"/>
              </a:rPr>
              <a:t>】とは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Visual Basic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Visual C++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Visual C#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C#Builder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Visual J# 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Java 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C++Builder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Access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、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Excel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等のソースファイルから、納品用ドキュメントを自動生成するツール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システム開発で使われている全プログラム言語、全バージョン対応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１０万ユーザに支持された業界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No.1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シェア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FEAD-4D0E-4259-87BA-962B14DB4E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01800"/>
                </a:solidFill>
                <a:latin typeface="Arial Narrow"/>
              </a:rPr>
              <a:t>ドキュメント作成の自動化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ソースファイルよりドキュメントを自動生成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納品用ドキュメントの作成作業の自動化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ソースファイルを解析するリバースエンジニアリングツールとしても利用可能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ドキュメント作成工数削減とコストダウンを同時に実現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3BB-AD3F-43FD-B89E-C1A2C2AFF0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01800"/>
                </a:solidFill>
                <a:latin typeface="Arial Narrow"/>
              </a:rPr>
              <a:t>完成度の高いドキュメント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異なる言語で開発されたシステムでも、統一感のある洗練されたドキュメント体系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不要なドキュメントを削り、必要なドキュメントをより簡潔に生成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市販パッケージソフトのマニュアルと同等な高品質ドキュメント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表紙、中扉、目次等を含む一冊のプログラム設計書を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Excel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ファイルに生成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開発時に必要な、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html/chm/xml</a:t>
            </a:r>
            <a:r>
              <a:rPr b="0" lang="ja-JP" sz="3000" spc="-1" strike="noStrike">
                <a:solidFill>
                  <a:srgbClr val="000000"/>
                </a:solidFill>
                <a:latin typeface="Arial Narrow"/>
              </a:rPr>
              <a:t>形式のドキュメント出力も可能</a:t>
            </a: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A110-F54C-4D77-86CF-3408135882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01800"/>
                </a:solidFill>
                <a:latin typeface="Arial Narrow"/>
              </a:rPr>
              <a:t>対象となるソースファイル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Visual Basic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Visual C++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Visual C#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Java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Access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Excel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spcBef>
                <a:spcPts val="850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400" spc="-1" strike="noStrike">
                <a:solidFill>
                  <a:srgbClr val="000000"/>
                </a:solidFill>
                <a:latin typeface="Arial Narrow"/>
              </a:rPr>
              <a:t>全言語、全バージョンに対応</a:t>
            </a:r>
            <a:endParaRPr b="0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910B-97B9-4E43-871E-AB0D3C7EF9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01800"/>
                </a:solidFill>
                <a:latin typeface="Arial Narrow"/>
              </a:rPr>
              <a:t>生成されるドキュメント</a:t>
            </a:r>
            <a:endParaRPr b="0" lang="en-US" sz="4800" spc="-1" strike="noStrike">
              <a:solidFill>
                <a:srgbClr val="301800"/>
              </a:solidFill>
              <a:latin typeface="Arial Narrow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49"/>
              </a:spcBef>
              <a:buClr>
                <a:srgbClr val="9d9c8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Visual Basic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版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(63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種類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ファイル一覧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Web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フォーム説明書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構造体定義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継承情報一覧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プロジェクトプロパティ一覧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プロシージャ定義書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Public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定数一覧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Property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定義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eb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参照一覧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Web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参照定義書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Function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定義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eb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参照ファイル一覧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Web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参照ファイル定義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eb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参照クラス一覧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Web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参照クラス定義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一覧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 Event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定義書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Delegate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定義書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Web Method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一覧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/Web Method</a:t>
            </a:r>
            <a:r>
              <a:rPr b="0" lang="zh-CN" sz="2600" spc="-1" strike="noStrike">
                <a:solidFill>
                  <a:srgbClr val="000000"/>
                </a:solidFill>
                <a:latin typeface="Arial Narrow"/>
              </a:rPr>
              <a:t>説明書、目次、表紙等々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021-AB98-4D71-9EB1-2CD39237A0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クラス図</a:t>
            </a: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(chm</a:t>
            </a: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形式</a:t>
            </a: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1" name="1.クラス図(chm形式)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6478560" cy="4981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7C0D-EA62-490A-965A-2BEF29AC9DF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クラス定義書</a:t>
            </a: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(chm</a:t>
            </a: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形式</a:t>
            </a: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3" name="2.クラス定義書(chm形式)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64594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A49B-A03C-4B84-8FC9-DAC99EC212C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レポート定義書</a:t>
            </a: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(chm</a:t>
            </a: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形式</a:t>
            </a:r>
            <a:r>
              <a:rPr b="0" lang="ja-JP" sz="3600" spc="-1" strike="noStrike">
                <a:solidFill>
                  <a:srgbClr val="301800"/>
                </a:solidFill>
                <a:latin typeface="Arial Narrow"/>
              </a:rPr>
              <a:t>)</a:t>
            </a:r>
            <a:endParaRPr b="0" lang="en-US" sz="3600" spc="-1" strike="noStrike">
              <a:solidFill>
                <a:srgbClr val="301800"/>
              </a:solidFill>
              <a:latin typeface="Arial Narrow"/>
            </a:endParaRPr>
          </a:p>
        </p:txBody>
      </p:sp>
      <p:pic>
        <p:nvPicPr>
          <p:cNvPr id="165" name="3.レポート定義書(chm形式)" descr=""/>
          <p:cNvPicPr/>
          <p:nvPr/>
        </p:nvPicPr>
        <p:blipFill>
          <a:blip r:embed="rId1"/>
          <a:stretch/>
        </p:blipFill>
        <p:spPr>
          <a:xfrm>
            <a:off x="1798560" y="1798560"/>
            <a:ext cx="6459480" cy="496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99D7-3CD1-417C-A613-33A020C5AB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3-03-17T05:52:52Z</dcterms:modified>
  <cp:revision>58</cp:revision>
  <dc:subject/>
  <dc:title>PowerPoint プレゼンテーション</dc:title>
</cp:coreProperties>
</file>